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599-28AA-4621-84F9-3C571FFB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D47-CC64-43BA-AD43-A43024C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F3B0-265E-4D8B-A4D7-4863FF20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48127-3D97-42C2-BDE8-B29EBF5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098FD-5F44-4ECC-9F64-401F25B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8D22-EFE5-4B31-9AEE-FC004B4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C2707-01E2-4CED-8AEF-8FB8C25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A1CB-04B4-44E1-8B66-7F558B3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D226B-F3C1-4BE3-B713-B0949C94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DBB4C-8701-4B2C-8E2F-20909676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66E9B-844F-445A-B2AE-5656BFAF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E997D-B94B-402E-8432-6FDFF9B1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DE5-B697-4785-B95F-99E52281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DBD8-46BE-408D-84C9-6E6E8CB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DDB72-1917-47BB-9DEE-99594F37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86019-D84B-46EC-AA50-C94A2EE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08BB3-F6CA-4B07-854F-42F4EDA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64467-D8AC-4CFF-A1CC-3A411439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EFF89-25C1-4F3E-8FC7-8D3EC11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E53CC-C22E-4115-86DA-0DD8A161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59552-5EAD-4450-B9D3-1E272F1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270B5-799E-48F0-B600-F1AE625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D7915-AEFA-4F8F-BB9E-4B34D0DB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E11-BFE1-4825-A10F-A0962E16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BCC81-CE90-4CE4-83CC-CAA713CB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05A86-3B34-4006-ACB9-12BD1214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3D549-6939-4719-B6BF-09843CA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DC1E-2EB1-4EEB-B94A-930BC7E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C3C8-682E-4048-B812-278DC96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91CBB-ED3F-4AAC-8BAF-FEB141FA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06D2-03C1-4015-9912-6BCDF59D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BECF2-2591-44BD-AEE5-DCBBD5C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94D4-8230-4EA6-9193-91A6B388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5558-D061-497A-AEF7-A75CF3F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C697-FD43-41AA-B50B-0963B0A5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DA0C4-8659-484E-B852-DF06D3C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CD189-3CA4-4737-9F66-BFC96262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FFF44-63BB-4ACC-90C4-216E2C44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58B99-30CF-4458-B6CA-18E6D59A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982B6-A74C-4560-82B1-11CD16F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832D7-F901-4895-874A-018C3CE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19FCE-7427-4B86-A779-0D5E73D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F3B83-770A-4CAB-9707-1362B3D4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C0B0D-E72B-4815-A326-78C183D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F5E00-2ED5-4AB8-BA26-EB572EF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D9F-1714-442A-B2E4-D0B3094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8F47-4157-4964-825C-29B96488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1A687-A382-4D74-A6C4-815BC93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BF56-38AE-467A-9B9E-7CB74C2C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E74E6-C2DE-4410-8B17-76C18B0C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A93DF-13D8-4A5D-8C50-3B49B87D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8DDE2-43C0-463C-921B-1CD16DE1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716A8-E86C-4FB2-A7AB-A9CD5FE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96D9E-8978-4F9E-9A7C-B83C82A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03FFC-AB87-4CA1-BF86-54CB35D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DC22A-D74A-4717-B34D-7BE3939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376-E1C8-4DD8-A410-069D2B0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FA31E-A50D-48C2-BD79-45559558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8C596-112A-48EB-A4F8-C448FB8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51566-2AA4-4522-A908-8B05A90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5EEF3-670D-48EF-84A9-7C7A165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0188B-0204-439B-9A65-73ED1F09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BB2FF-3DF0-4CAC-8B51-47C93E74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472ED-242E-492A-B40F-288203AB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25756-AF76-4200-AA3C-2944CC3E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B15D2-2AC1-41E8-8085-AA580505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8E22B-9F67-40D8-8422-69BD5DF3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83C1-627A-4382-A066-1D90DE1A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BEB3C-AF29-4EEE-A6B5-4CBEFC0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7EBA5-FC09-4FE7-A992-5BB3032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8A73E-76F7-4265-8B2A-2D496EB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3FD2B-F0B3-4A4C-AECF-1A8B750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F9650-CB8A-433F-A8C2-EFBD4A1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017E8-24FA-4F42-BDDF-E2695F0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CC970-15EB-4E1B-B68B-327CCAD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D8AA4-CAA7-421D-B35D-434DCF61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94901-5688-4F1C-9E82-D7A0E1B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46D23-E72A-4F1A-837C-C57CFF37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310-4CAD-49AF-9FA7-2A446BD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69FE5-4B45-4363-A2A2-0D8CA32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7D1BD-4CA1-41EA-AF16-D57A6A3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DA9F1-2EE7-491B-8965-5336244A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A6A31-29E4-4C49-AFEA-10FA813F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B0ACF-63A1-4FA9-BF17-0055852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3EFEB-98B4-437B-9056-06EC356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A78A5-3D49-4E77-80C5-A4E303F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DC0C2-7C36-4E6B-85CA-A21ED3D9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CB61E-9CF3-4D6C-8900-874B7022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777F5-A710-458D-BCBE-06AC522E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BC19-C170-429E-8C4F-35089FD1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260AD-5D01-4886-9F8A-0FACE7BC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469EC-2D2B-4836-B432-72199907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BE79E-AD69-4D40-88EC-A2EDF98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CD160-3A80-4A36-8FE4-B5DE0933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344DE-B83A-43B9-835F-FF35048D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416ED-48C9-4A83-969E-761AC64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A62BB-5154-44EF-B446-1E703C6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4AEA9-2812-4608-9A69-A8CF24A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0913C-E5F7-4678-B7E6-9D7174D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4915D-D0D0-4DF7-BB28-2F714768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C9F-A06A-4654-99C6-09FA78F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EDB03-E2E4-478C-9EDF-46F0D1A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E592A-9925-4DFD-BAAB-0EB84515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89436-9128-45AF-9626-B0CFF7F6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0B4AA-7080-4F64-8CDE-5085EC53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7DA1C-1329-4506-81C3-1597E2F3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3CEF3-B63A-4968-81F6-5F44EE2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2B51B-A544-4F0B-BF96-B1842F4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FE6CF-EF79-4ADF-B1B5-3FB05EF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5430F-F9D0-4F3E-946F-D00CA41C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EDE14-F555-43CF-B8D8-2189418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3C4-A18A-41A7-A191-BB42E51F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EF3B-52AE-4452-9028-DCB82DB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C49A0-9F89-40BC-9D70-5E479E5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62BF3-35CF-4BB6-AC69-CFD1A09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90512-D2A4-44A5-9CEB-3EE11A4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68535-7063-4EC6-A424-B8DEE186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89B1D-A5EC-4DFA-8A21-F8FF93C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14CDD-1EAF-4EAA-8C51-8DFA2A0C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16511-AE5A-4735-BE94-6E6BCC5E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0067A-41AC-43A8-A954-47B7871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D3E7A-262B-4294-828A-A517A6C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51EE9-3456-4BEC-8EF3-48CADC7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D8E6-8F4D-4744-9379-FA96163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D7F0F-A8F8-4CFB-9B33-C187E7C0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4156A-FD94-47C6-A4D0-D43FF85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48EC2-4CA3-4924-BE11-4B2BAF9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0499E-A4AA-4FD0-8D21-7D72951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2FD2C-4511-4ACA-A82F-3702D75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9A31F-F2B4-45B7-812A-7B34F7D0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4C4C3-47E7-4337-8867-954FB3EB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E08F6-442A-4921-85AF-35BC71A7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3EDA4-AEC3-4B2A-B5C5-002B42B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C6599-E6D7-47A2-B743-EB66956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16E-47DE-4BEE-820B-02E1541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1B6A7C-DCE7-4EC9-8226-E11040E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E0B3A-81A5-4BE3-B020-0C7429B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9CE41-CBE8-4DDE-B06C-C883707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FA4CF-36FD-4AAD-94F5-F4951004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11D7C-528C-41C7-BF3B-2C1C72F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5B564-E586-4A09-BCFE-D2A4DDB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66571-3D4A-4E54-AA52-423B619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04081-F361-4A96-A122-65A95A8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8651D-DAAD-43A7-8345-62E83CEA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A8034-EDE2-4435-BBEE-87DD9901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4894-8A28-4030-A502-F383C76F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23EA5-BBD2-4D09-8A2B-CB2CCC0D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F4B7E-B67E-4A9F-A1A3-69FBDD6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5C50F-8FBD-4D5B-9DD5-D845CC2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82608-4062-47B8-949C-997EA0A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2CE5D-0B21-4E6C-A057-A707EAA3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21F65-FB90-46C2-A46A-46A15B6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4B6C3-7008-46F7-8260-6EB3DA1F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34DA2-FAA2-4FBD-B57B-6D64417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494E3-D5E5-49FE-BB40-B141C79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34B0C-9115-4E75-A996-F5CD1CD3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C7C6-854F-460E-B09F-0B27C173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51ADA5-62C4-4BD3-8268-674577D1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633C5-B375-4083-B10E-5E4F3827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771A4-841B-4C4D-99EA-F343582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FC2EB-5F5C-4589-9A94-EF0B405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10CB6-64D5-4FA0-AB6A-8475BBE4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63DA1-BDA4-4F4A-8733-5A2ECBDC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7C4DE-2DEA-4F23-B5AE-D571C50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00AA89-8294-4E3F-B50B-9FE5C15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AE8A8-943E-469E-88D7-0002C32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125CD-771F-46F1-8D36-C3298F3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4589-F22A-4F84-BEC8-79DBCA2E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6A1B1-797A-4742-B6E1-CD93642E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5570D-3021-4966-BC39-A7624249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F2A6DF-C623-4EFA-B8C6-7BA498A6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4CF4DD-2C03-42DA-A762-33B6390C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7EA1F-2544-4332-B4D0-796939DB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3B0609-ED7A-4091-9B86-86FD3B4F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43A386-6486-402A-AFFA-D170F7D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66ECF-C161-4B3C-B407-09CBE27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F0417-554A-41CB-8367-EA20D38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9995A6-BEB8-424F-8EEC-49C5020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41DD-C2BA-4505-8E6B-C43ED409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F14506-460B-42F0-B1F4-BF34090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14CBB-1DEC-4107-9144-33130A0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AEEBC-EA0C-412E-9A6B-5CA69ABE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238B2B-0912-413F-8EB1-1E3AA0EC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584C2-BA2F-493E-ABD0-488D36E3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820210-AC65-40A9-AA8C-9BD2E890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81B3A-5C51-41C2-BAA9-323FDB6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73BFE-1D72-4F39-903B-0592216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10B45-0C6F-4B5D-AA2E-1EE8851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434B3-14EA-4576-BEAC-224D653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906F-BA40-4A44-834A-6743829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DB1C26-79C9-474A-96A4-C495D1B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35AA56-AB2F-4513-82A3-1514DFA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3E7F06-75E2-4762-BC1D-58A20BC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754508-D0CB-4199-B9D6-5B08DD5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A391A-55A2-4F39-B800-F39D5E96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DA40E8-97BF-479E-A64C-6FDA4856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06C04-634B-4D09-B74B-8A4F6F74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9F99-A191-400D-9923-882BF9F7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7549-E452-49D4-B8F8-F0B42EF7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C8E-B248-481F-B169-E6C6F4E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F357-DAE1-497B-B0F5-35B40E2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4086-7BDD-42F6-9811-FCD34D58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2818-2BC6-44F7-AE7F-5981D10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00FB-78A7-4551-8393-FF0219E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CDCF-290F-49BC-B5B1-FCF9C436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7805-7171-4B50-9A35-C23448EB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2544-47CE-41AC-B19E-F4A7BF0C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6062-1789-41FC-A76D-7550FA43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34F8-811C-4C33-90EE-A1BF5A8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AF9B-1FD8-419A-AF18-22FC8204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D5D-CEAA-4DB2-AEE1-518CE84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DC77-AD05-4B32-9AB0-CC3F237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9DA2-6BA7-4689-BE78-92B57EF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FE10-5065-4A57-B082-772CB6A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BAD7-BBC3-4F41-A086-A6DAD63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1009-3584-4AB1-A51F-8F8FEE8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BA00-1383-4CBE-8946-A63BF6F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270F-B1A4-4EBB-BEA7-6720E97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4A8C-B485-49EF-8426-DD1B85E1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D66A-F8F7-4242-BC87-9406AD4B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2130-7FFF-4E1C-9382-9E61A54F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B16-82FF-4A2B-A87E-750423DA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C6FB-8FFD-4744-9DDF-839A79BB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674B-AA97-458A-9309-3E77639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7034-6A68-4EEA-8808-221376C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2943-F62F-4584-B7BE-B0A2CD7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7979-C100-4D16-BFF4-DD2059C6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6513-D59B-4E8E-B211-E2B2955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449C-A1A5-4EF8-81C7-C2BC80D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B67A9-3B3A-432D-BB39-AF2F3C2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8221-BF76-4B49-973A-55B328C0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29AD-7A04-4D84-A55F-FBB31BB5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A9F-72E0-4E61-B1D4-6833C109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0DCC-B4B5-491D-BD69-46BF6367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849F-F655-475C-BDCB-A8571BB1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D4D9A-34B4-4C42-9387-01991F2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E0BF-7BC2-41DF-8109-77A079D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A1C1-5201-4100-8912-F04DD34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8C6F8-257A-4F1D-8A5B-D65F514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D822-8CA2-4A86-B799-AF8EF61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B38E-36DF-424B-92FE-9C2C1B7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11CC7-8E3A-4801-A1B5-7CBAB58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CAC2-D296-4451-B0CE-AF29419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960-0F63-42C5-B9AE-AC23F1D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264D-3C0F-4A3C-801C-8B426C1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85DE-445D-4662-964E-7E6DAAB1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1768-4546-4B96-A30D-5EF0F0CC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2CC3-8448-4F4E-BAF9-021088F3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9659-750D-422B-9EA8-B03BFBA6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78CC-9F7D-4BF3-8486-C2956BE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BBE0B-383D-4E69-874E-F082FC1F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E8EE-1B09-4E85-A5BE-4630D7CC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B29B8-A9B7-43BD-BF44-F57F206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39C7-B348-4142-BC82-F47E248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BFA-57E3-40AF-9338-64AA939E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3AFB-E6FB-4E07-8A40-964EE6D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B338-B4AD-4F4F-9D07-BFBAB96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A6200-124C-4EA3-886D-B77F93A1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9226-2871-4A5A-947A-8B3D0BC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F7E6C-19A4-4547-AE6B-21873B41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61DB-8733-40F4-B274-0D6BBAD7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A7A4-C3E1-4D5B-9215-DE6727E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6FECE-06AF-49AA-90C0-8127AD3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07AA7-360F-4947-B32F-4FF1FE7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52F0B-FA46-434D-AC06-61C2E579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B79-94C9-4C24-83A9-79D4C8B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F3B7-91F7-4EDB-B705-EAB65A9A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522AE-CB59-4107-BFE0-4F4ACC2E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43CA1-62D3-409B-A247-5BE5308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1CC4-2CA3-4C60-B2EC-0B56609E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50588-5406-4C75-A9A7-A93DD6E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D5F03-D5EB-4C57-9955-FB3530B7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2212-BC90-4F91-BB1B-AC08DA82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4E913-115B-43B5-9BFE-F43FCBE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52B69-1E5D-446B-B9DC-FCEB37D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D792-F3EA-4644-A540-D28633E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85D-E78A-4FF1-93A4-C174C5FAD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4FE-3234-4901-A484-E6EEC0CB7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70F8-6D08-4060-AFF7-1F9C8FD1C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5686-FA97-46C1-B2E3-17DF9DA28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F4B-43BC-42CF-A470-E52E1E253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D8D-B0CC-4ABA-9F20-0E892D055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55C-0A44-4856-8922-A850027AE4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D851-9ABB-40AA-A994-EFFB3DD51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22EB-1233-46AC-8F0E-C5D4E8EAB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FD5C-193A-44E4-B64A-F2AC61029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89DF-7A5C-4F00-9021-922916508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131-DE14-4929-A436-42FE5517B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12BD-23E0-49FA-9CE9-BD7D5DEB5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ED86-B2C9-40FC-B117-953C52012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0B1-5CD7-4AD8-8CD9-012B460C4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9E90-ADC6-4649-B1EF-5EC12E8B8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5C6-3887-4AF4-A381-047E9DE86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661-80F5-4729-BA8D-24A6509E1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007-F4E9-40A9-A7B0-7469B4B67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B85-E9DF-4A3B-A86B-9C94E7884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2B1-E10C-4129-B1BE-415591E59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0BC-A544-48D1-A024-19B54257D0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515-0B38-4831-8466-DE8679E70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BCA-FFB7-4041-85B0-36FA0D620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915-EE29-4623-AF07-E11F4A515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C48-7A84-4D17-9150-F12368A8A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AA6-138D-4DC6-8810-A4009C684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576-BEDE-40ED-A056-27B6EF50C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DCE3-2432-4C47-B05C-FE96CAB957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E5B-6AE9-4AF7-A374-C0D0A7C88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F65E-A754-491D-BF26-4C008B2D9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0EA6-601D-4C5A-8350-6C2CA44465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BE2-AB72-445A-84A5-B59693D1E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9530-18B9-4245-9686-C1C3E33CB7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0EBA-DD25-4FF4-BE6B-22BAE5C77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CEFB-F243-4F4F-A19B-54694DA1C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EF05-6523-49FA-9C76-B840AAB15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EBA-FA6C-4998-8136-DAA0D7E60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37E0-4F2B-4B66-86F1-4A212B908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346B-2D66-4A98-8BAB-1AF07BA6F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3A9-CE1B-4987-9BEE-68D3092EC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F23-2153-4D8E-84FB-E019BD573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78040" y="2154240"/>
            <a:ext cx="77025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57320" y="777960"/>
            <a:ext cx="6027480" cy="15429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039080" y="1965240"/>
            <a:ext cx="1400040" cy="3999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57320" y="2413080"/>
            <a:ext cx="7856280" cy="67608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157320" y="3220920"/>
            <a:ext cx="7665840" cy="34290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39560" y="121608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2421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3213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95280" y="4437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395280" y="5950080"/>
            <a:ext cx="3589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66680" y="2082960"/>
            <a:ext cx="6313320" cy="234288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2" descr=""/>
          <p:cNvPicPr/>
          <p:nvPr/>
        </p:nvPicPr>
        <p:blipFill>
          <a:blip r:embed="rId2"/>
          <a:stretch/>
        </p:blipFill>
        <p:spPr>
          <a:xfrm>
            <a:off x="6480000" y="2590920"/>
            <a:ext cx="2409840" cy="19335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2916360" y="288288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1619280" y="327168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2411280" y="366084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2987640" y="4044960"/>
            <a:ext cx="792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84320" y="1333440"/>
            <a:ext cx="6370560" cy="347652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184320" y="4933800"/>
            <a:ext cx="7856280" cy="73368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3" descr=""/>
          <p:cNvPicPr/>
          <p:nvPr/>
        </p:nvPicPr>
        <p:blipFill>
          <a:blip r:embed="rId3"/>
          <a:stretch/>
        </p:blipFill>
        <p:spPr>
          <a:xfrm>
            <a:off x="6470640" y="2424240"/>
            <a:ext cx="2400480" cy="2009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611280" y="2114640"/>
            <a:ext cx="165708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611280" y="2890800"/>
            <a:ext cx="16570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1403280" y="36640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3708360" y="366408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8"/>
          <a:stretch/>
        </p:blipFill>
        <p:spPr>
          <a:xfrm>
            <a:off x="826920" y="4437000"/>
            <a:ext cx="194472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9"/>
          <a:stretch/>
        </p:blipFill>
        <p:spPr>
          <a:xfrm>
            <a:off x="539640" y="530064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10"/>
          <a:stretch/>
        </p:blipFill>
        <p:spPr>
          <a:xfrm>
            <a:off x="1979640" y="5300640"/>
            <a:ext cx="2160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104760" y="1609560"/>
            <a:ext cx="8934480" cy="3638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1403280" y="241128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539640" y="3193920"/>
            <a:ext cx="216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1979640" y="39672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3564000" y="395280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1447920" y="4724280"/>
            <a:ext cx="747720" cy="290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2627280" y="4740120"/>
            <a:ext cx="2232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7:3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